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4F0-4F64-4673-B33D-8C336FE9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FED-1ABA-4D31-A325-22721D90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FB2-975E-4BDE-8DD0-55FBB000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492-1E8B-4C61-AB1A-50714358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9B3-13BD-40D2-98AB-489A6B0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101-A850-45F0-BCD4-309E48D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8B1-2670-416C-9742-FBF23E67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903-110B-400D-918F-47CE6FB0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D25-4F5A-4F67-8AC1-6B29265E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0C1-AAD6-45F4-8AC6-1C27683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37A-C524-4E78-8B0D-056D5BA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DB7-D635-4557-8063-C28B323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C2F-AE08-4CFD-A85D-22A1A9D94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ug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7432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j0287192" descr=""/>
          <p:cNvPicPr/>
          <p:nvPr/>
        </p:nvPicPr>
        <p:blipFill>
          <a:blip r:embed="rId1"/>
          <a:stretch/>
        </p:blipFill>
        <p:spPr>
          <a:xfrm>
            <a:off x="3581280" y="4495680"/>
            <a:ext cx="1905120" cy="14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N01209_" descr=""/>
          <p:cNvPicPr/>
          <p:nvPr/>
        </p:nvPicPr>
        <p:blipFill>
          <a:blip r:embed="rId1"/>
          <a:stretch/>
        </p:blipFill>
        <p:spPr>
          <a:xfrm>
            <a:off x="3962520" y="4419720"/>
            <a:ext cx="187308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2743200"/>
            <a:ext cx="137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0008_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744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33920" y="2743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j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0112514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08764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2743200"/>
            <a:ext cx="99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7432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N04210_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03240" cy="9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81280" y="2743200"/>
            <a:ext cx="60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E01136_" descr=""/>
          <p:cNvPicPr/>
          <p:nvPr/>
        </p:nvPicPr>
        <p:blipFill>
          <a:blip r:embed="rId1"/>
          <a:stretch/>
        </p:blipFill>
        <p:spPr>
          <a:xfrm>
            <a:off x="3505320" y="4343400"/>
            <a:ext cx="196524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5480" y="274320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h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h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E03640_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19591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2743200"/>
            <a:ext cx="99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HH01516_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6542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74320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u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j0162991" descr=""/>
          <p:cNvPicPr/>
          <p:nvPr/>
        </p:nvPicPr>
        <p:blipFill>
          <a:blip r:embed="rId1"/>
          <a:stretch/>
        </p:blipFill>
        <p:spPr>
          <a:xfrm>
            <a:off x="4038480" y="4495680"/>
            <a:ext cx="1292400" cy="136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4:39Z</dcterms:modified>
  <cp:revision>4</cp:revision>
  <dc:subject/>
  <dc:title>-ill Word Family</dc:title>
</cp:coreProperties>
</file>